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59C-A61A-488B-9AC9-D9B54223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573-80E6-41F4-8A00-BB9898D3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6728B-8A6F-4C2A-A654-E5DE5F4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1B96F-D4D2-4B4A-89F1-9562FF00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37A93-F139-49A3-83B8-74FF7334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B30AE-5078-4996-949C-967CF8F3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C7EC4-9B99-4216-8C00-D9F01D02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64D6B-8EC9-46B3-91B0-B652B39E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F485D-D54C-4761-B5D4-7101BF0B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7C138-8207-47E6-B620-ED7EBD58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854A6-7E37-45EE-B55B-0D71DDB7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12F06-6784-4AB9-ACD8-DFFEA042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2EB-0CB2-4E67-A875-05C03221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687FF-D359-4191-A741-AD9EF2C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68164-C903-43A9-9C4A-ADFCE848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DC876-220B-4B45-8870-D54589A1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579F-2E55-49CC-82D1-25802DE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964F5-B020-4AFA-86E5-4245DCBD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9898-2D58-4BBA-ADBC-4FDFA0B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C2DB0-92B0-41C9-A8C2-949D6331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A6B92-8912-4600-B76B-DAB7C279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7362D-844D-4F1F-84EA-D9476322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76AC9-FF5D-438C-8789-FB4E2708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5B5-A222-4CE4-BE74-139115FC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DA8F7-7377-462C-8EC7-3BC224BD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89FC0-4B10-47D9-91E2-D632FF0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FC859-B804-4967-866A-4F191485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408C3-DA51-4EF5-BBB7-D184B57E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05625-A65B-4C8E-94EA-4A998438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5C336-516A-452A-A668-10704FA5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1106-9E3A-4790-AA0E-68DCC57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7ABED-6FD7-4FB8-BD83-0E8AA66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054F3-9A85-4985-B39A-93CD4D2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4A79C-0A4B-41FC-9281-90A53539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56A-7B00-4EAD-AA96-7375DA39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BAE3-BBDC-4199-808A-AA4A6E4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F7F59-BF4A-4CEB-9C00-D45D939A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0F9E4-AC24-45A3-997F-1B991F7E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13083-7C3B-4CC6-83C9-3D0F2F67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F9764-9172-4224-8B72-C5CC9AC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597BE-72D0-43D0-8AD3-CC86BC44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C851E-3FAE-4318-B2E3-9A23A564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03F23-C073-463D-8048-D789802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09CAC-2A73-4E6E-9ECF-5DBF5A7C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DEE7C-880D-4C58-A2A3-B1710E69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0B48-A37E-4E4E-AA23-E908310B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CC5D1-8F83-4B56-BA2F-0DFD9B2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7D7C4-96CA-435A-9EE9-B6A117B5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7012-87D7-4A78-9D2A-9BB3A39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38665-2C09-46EB-8DB6-2785D291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9EA89-0D5F-452E-A009-57357673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9E7F0-A4D6-4E74-BF81-F416D1B5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351C0-BA01-4C08-ABBD-D9FE30B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3DA6B-8E20-40D2-B5E8-E5ED932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2C5DA-952A-47E2-B6FF-CC4E81DE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730DC-2179-4B4D-8131-A6CB698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604E-4CA4-4427-B419-A9B1DA50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835289-9BA6-46B3-B1A3-0DC13BBB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95FA2-D514-4D1A-B4EE-A939175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AA722-CD28-4C36-A716-3AF133D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5867D-F6BF-4F78-8D2F-12B7411A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4DD92-AE63-4306-B8F4-6492A6E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9C604-E006-4C7F-AC71-EE67118C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06B69-D6E1-4757-B8D2-C011DC94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02F66-F3B5-4EDB-927F-E4D177B4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E84F8-BBBC-45C1-B470-DE12E445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AA6F5-897F-4632-80C4-D32CB4F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6DFA-C7CB-4615-8687-9B0BE03E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59F61-0960-4787-B5BA-B71FA34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1C662-2498-409C-A92B-0229BD95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0FEE5-BF98-4ACB-B593-D74D99D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3C284-3CD9-4215-A8ED-2A233C4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C9F0F-6003-4EDA-A8A0-38A569F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0912C-FA4D-4E82-8E22-A821834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73F1C9-138A-4472-97F7-23AD6A44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8D729-23D4-48E0-BE1C-0054D74D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02C91-2104-45F7-9F45-63C14C8A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70B17-7649-408C-83D5-46CB990F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15EE-AC79-438B-A659-98F14EFC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D39C6-DB19-4598-B820-9F7E0EF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2F3EF-DE1A-4754-858E-62FC6FC0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FE26E-2284-434F-A632-C264BA8B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75F23-1728-4F84-801B-7B2F3AD8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45A9F-9F41-4DAE-AAD6-B95ED528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0DFBD-29B3-43E5-9382-A27B17C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08A31-F810-4BE7-AE2F-565BB69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3F520-CA05-41FA-8981-194C0400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01D03-EDC5-4BC0-AC1A-BB3B07D9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D17ACB-2F7F-4D43-83A6-595636C8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CB1-8BDD-4CC5-9C49-11BE862E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A84413-7D74-4711-8587-E5EFBEFD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7AFD9-7203-450F-ACC0-E724C7DA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393AE-9302-4598-ABC6-9B524E2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88C1A-D123-4313-B019-B108B18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3CECE-688F-48BA-B27C-C0FFDEB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7FB2F-26FA-463F-935B-FF8D9FF8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0D59F-101D-4748-95D2-583A3B0A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0714F-9FC4-45DA-845B-D7AB38E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7404E-3425-4C40-B7D9-EE14FE9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1FF390-90BC-4CF5-8D62-CE771383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8A3E-C93B-4FD8-B38C-8A86D811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EADAA-126C-4694-9231-7A77F509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7F4A9-FC19-4134-8934-9C2AA710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FA3A8-A010-4C78-910D-76E76D8D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ABC82-F494-4D9E-A7B8-B75E5C76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2E471-CB66-4B6C-AFD7-F4BC5A07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B16769-FD27-415D-ADBF-F6F8931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8FF404-134E-4150-B92D-4D502605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80BA9-7405-419D-B6A8-B8E510F4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6F85C-989A-4B84-929B-FE5246A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5033AA-D9E6-45C7-9328-81E462B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266-FA42-4055-80E4-241FD140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F92-AA28-4728-A7AE-5FE163FA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83EA4-1DC9-48D9-AE2C-F221804E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B8F04-2918-433A-98A5-D627BA7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1EFBE-24E1-4429-BFAA-B5F242B5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847BE-6491-4DFC-A018-45A145D3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6F6C0-DBE1-4458-9723-A09486CA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863F8A-3C58-4374-845D-032BCF57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51425-0536-4F77-BB54-757E292E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1CB76-D2D6-48AB-B930-984BC1A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40A0F-0EAB-4452-A276-002A29E3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E3240-C3A6-41F6-8DAF-DFEBC50D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E9FA-066D-4E62-9ED0-435E069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9D9A07-199B-465A-9D14-43F527D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77DEA-9869-4EE0-ACA2-2B0C90D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F5E9B-BACA-44BB-92BA-8DB10FF7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AB6E0-0D47-4CB8-84FD-C5B08D8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0C6D9-AD54-475A-B2A0-DAC3C0A4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0C804D-3E65-4C1B-8387-1581FD9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3DCCE-61B6-4AF0-B613-E96C0EC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46E2D5-E071-4CA3-8B48-80018D98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1749BF-99E6-4EF9-A302-B84B674B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7E176-882D-4C6D-94A5-9A3F8BB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B188-24F8-4AAD-8277-416370C7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AAC3A-6102-4859-8BA0-75F2565A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15DCF5-733C-45A4-BEEA-8E001D8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82603-1024-4DE9-8F24-B6B128A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25144-32E6-4708-957B-0E201F6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73EE5-9CD1-4E70-A8C8-18B360D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2E603-4591-4391-8F33-C4B5A0B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60F57-9F51-4F26-A942-06F2A57C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5ED320-36D8-45B4-A285-A7FACBD0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C9BEB-E069-4B8D-B75C-13583E1F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642FA-128E-4D32-88A5-AD6D2C81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EBA4-655B-4A1E-A976-C8DEFA1E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6C742-D99B-4ACC-9B2A-0FEFB042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9E7A6-D885-4B0F-AE20-F6A59CE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79324-8834-45DF-9081-B3B8278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CF0B4-EEAA-4796-B55F-0085D12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D82D1-CB60-4505-A4F4-E3B7AFCD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6C8A9-8970-4F0C-B7A8-FBFE3652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D162AB-B33D-40EC-A269-0DB071B1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0D59E-C666-4E21-B5C3-15AA90B9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F6B04-47C7-4DEA-8CBF-C01A908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300A6-5D2B-423D-97E5-9823B2F4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D2E2-EFCF-4F0A-A967-81469C0A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094AE4-7C1A-4073-8E9B-0E8FA5F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B19EB-2EB9-494A-8580-DEE2081F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3AE9A-6AAB-4854-B429-7CCF6BAA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E22B4-74B7-4B0E-BD0F-10A8712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B92D8A-E171-4C63-8A56-653E423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7A803-3B27-43E1-9815-F5B98732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FA188-7A05-4EDD-ACCE-FEFFFF7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12E4D-9672-400C-9B81-14EC1262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B30E45-4559-42D0-B83B-1C3176D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36B6CC-059F-4BCF-8B8B-3F13855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2ACA-C236-47B1-BD9B-2BC88152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B1180-7437-4DCD-892F-4B8F7694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B5C86-0999-491B-9A3B-D961DF58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E3FF5-93A8-4707-BF33-78874482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47C6-A779-4F95-A821-576A556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C810-D548-4B84-A997-7FE2FBF0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99ED-6114-4026-8F18-18F7B6F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7632-8269-4961-8B22-5EF4A0DC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BC1-BDAE-428C-A8B8-5042FCAC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8C84-A7DA-4E9D-90FC-7244395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E84C8-C095-4CAC-ABEA-B1E1C9D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77320-1402-4C7E-A5D9-F3AC9AB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9E79-9D37-4A79-845C-2CB1778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53E10-4CAC-40F1-BCED-9752023F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3B09-1109-4405-A2C8-E6FE1783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2BAE-5648-4619-97DB-0E628045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A78F-A18F-4148-9BA9-F5314D1C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2910-0BFB-4427-8960-1DCC3B05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74E3-DC0D-4878-8102-AC254E95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96A-363E-4392-9916-E76A2A3E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51B8-082B-4D50-97B6-D11756D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CA1EE-CA89-4515-88F1-436E0890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D15BF-31E3-4DD5-B60E-C8E608CC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A478-A0A8-4433-A56E-DE82CB2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72D83-D56A-413C-8941-A6931589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79686-E6FB-480C-8D5B-4927D09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604D-D2A5-4CC8-A25E-3328302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F06A-0CA2-4FC4-BE6D-B00D8D44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E984-9BE9-488F-BA89-DC6767AF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6CBC-9671-46DB-93F6-5F2223A4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2DB-4FE2-49CB-BF44-579E1E8D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3988-4D16-4388-AC1E-195AE4B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C4483-5E64-422D-AA47-A7F2C8E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EA5A-B437-4229-8597-E3C8E019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61CE7-E710-460A-B92D-56F928B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17ABF-0142-418A-AC1F-B60D01B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568B-FBBF-405B-97C4-2EC63C9F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C2B9-59E5-4438-8F3D-A8CBB66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AC16-3BB1-4577-83A8-296F3C8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85579-1CCE-4946-A3B9-3C9D1B3D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F25A3-8A74-415E-A5F6-D5E49BC2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C05-34BA-4AC4-9067-60FFEC2B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A7DB-6A22-419F-BBE4-45890873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9E57A-D222-496C-9DBE-E10C8A09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D0F4E-47C4-42B0-9312-CFA2F7DB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F24BC-7013-49D9-AED4-BD61596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AAB5E-D1D8-4674-BF87-F94F642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2DAD-70FC-4908-B2E0-C258401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2F5C-3DDF-4E2E-8398-B021F3E5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2032-1E16-4B19-9A68-2FCA1FEA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E483-7866-433D-ADDA-E6C929B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AAD1-2A9B-492C-848A-CCB1F1D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015F-6736-4CE9-A00B-3B1C492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C0CF-3D1C-4411-801F-A0B5C1E1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8EE7C-B7D8-442A-9120-D0BC8BC5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0BAAF-D0F5-4425-81AD-E7094E8B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BA29-147F-4B59-A419-1327E5ED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2D69B-A60B-47C5-9205-98CC179E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BF2D-D535-4601-BF7E-BAA23B3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53E2C-228C-48B5-9F5D-29165C68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3DB1-C42B-4FD3-8D81-445017E7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2FF7-4C98-4931-A75D-464FDAA7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B0DA0-3702-4861-A223-17DEB4BA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736-5F55-466B-B03C-81B04BC8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60049-0EDD-4518-9904-F16315C6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294A4-752D-45D2-AA2E-7EE7E5E2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57F9B-493A-4B43-99B8-C216BF29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EA0A-589E-4685-8471-F19B3CF7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E9D70-41F1-48FA-9E5B-5B1B3AF4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F8595-4931-4C23-8E96-DAB30BFB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A0237-61F6-4C14-A952-E657561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3365-B692-4372-9172-BF8E3B76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EAFBF-A072-4178-A252-8213F48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BD8E-E419-43DA-9BAE-D17E86C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86C-0C6F-4726-B629-7E577F0B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8429C-2D79-4668-B0AF-4825742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D8060-7125-46E4-96C1-9783B1CF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269B-67BA-45C6-B0AA-217715F3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9E0CA-AC37-448F-8336-D86AAA2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C28A6-1C82-4DC4-9EBB-34112F12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04D5-A32A-4557-A36C-16F9062E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071DB-CA74-4EEF-B0F9-A5BA9B6D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0AEF1-725C-4BE4-A256-ACF5D8BA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67808-8E95-47CF-9824-EFC5835E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14DBF-FCA6-4021-8A16-66684E4B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09DF-893B-4AA5-8AF1-534A9E7EB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74C4-1520-409F-BBE4-9FE1F855A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EED7-4DD3-45A1-870A-A525DE8BED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E613-4ADB-4909-A710-F0DF9DCFB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7CB7-0206-48CC-A25E-3BCD546647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0442-9138-440B-8505-A035C3151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3C8-B095-44D6-B09E-3D5C9AA9D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1E7D-3440-4D72-B081-EDD544BB6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32C3-C4A7-4FC4-B39C-EB751137BF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C25-6240-46AF-8B3B-7F09086399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4561-40E6-40C5-A709-340C7E4C70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A0C-6542-463C-8D3B-F616F25896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3325-6155-4935-B79A-D87861A759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72B-BA50-4681-A6C3-0DFA00545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0884-D3C3-49C7-A755-E130E3A71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023-1FD1-4B23-B396-A7BA0C3D6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9974-0EAB-4055-953E-4E582110E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F109-DBA3-422F-AF92-97D9E10301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F5E4-F654-46D0-8EB4-A3FA7DF2F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6A79-579A-4A63-BE54-27E3A5B950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EC12-3DE2-4173-83E5-2068A5AA2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953-2512-44B7-962C-C3F0F246C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0C01-9785-48ED-A590-A89183866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F22B-DC28-42E1-AC70-6D16E5725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B2D-C522-4BD6-8C52-2AAEB372A8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2427-5672-47C0-B116-BCA5D6B43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7016-EE6B-4E4E-A718-75A1124EA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0795-4CED-4E8A-8BD3-3FB7CB867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5935-6903-42C4-A104-6E867FD1CA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D7E-5AC3-48E2-873B-3C2F9482F5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8F65-87AF-440E-9EF2-5D2EAAF77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D052-8C4D-42C0-9A4F-553FE4547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D49-850E-4656-943E-3D86FDC29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9192-99CC-4F6A-A645-C84D5F5311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010-A3C0-4381-A242-4EABBECA3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6551-D1C6-4EAC-870B-4FC598D09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52F-39A7-4037-9D14-0B1DDAB2B7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A544-FEC9-40B6-AF17-1625E986D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0EF-24BA-4DE4-B136-BE7432D0D8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D492-8FDD-4DE2-B479-300A068D3B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965160" y="2320920"/>
            <a:ext cx="7399440" cy="7048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128680" y="3746520"/>
            <a:ext cx="48866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33200" y="1457280"/>
            <a:ext cx="8877600" cy="3943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619280" y="4826160"/>
            <a:ext cx="273672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5450040" y="4840200"/>
            <a:ext cx="27367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47640" y="1233360"/>
            <a:ext cx="7848720" cy="43912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5122" descr=""/>
          <p:cNvPicPr/>
          <p:nvPr/>
        </p:nvPicPr>
        <p:blipFill>
          <a:blip r:embed="rId2"/>
          <a:stretch/>
        </p:blipFill>
        <p:spPr>
          <a:xfrm>
            <a:off x="2340000" y="3025800"/>
            <a:ext cx="1368360" cy="55872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5123" descr=""/>
          <p:cNvPicPr/>
          <p:nvPr/>
        </p:nvPicPr>
        <p:blipFill>
          <a:blip r:embed="rId3"/>
          <a:stretch/>
        </p:blipFill>
        <p:spPr>
          <a:xfrm>
            <a:off x="5176800" y="3025800"/>
            <a:ext cx="2347920" cy="55872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5124" descr=""/>
          <p:cNvPicPr/>
          <p:nvPr/>
        </p:nvPicPr>
        <p:blipFill>
          <a:blip r:embed="rId4"/>
          <a:stretch/>
        </p:blipFill>
        <p:spPr>
          <a:xfrm>
            <a:off x="2340000" y="3716280"/>
            <a:ext cx="1511280" cy="55872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5125" descr=""/>
          <p:cNvPicPr/>
          <p:nvPr/>
        </p:nvPicPr>
        <p:blipFill>
          <a:blip r:embed="rId5"/>
          <a:stretch/>
        </p:blipFill>
        <p:spPr>
          <a:xfrm>
            <a:off x="5292720" y="3701880"/>
            <a:ext cx="1655640" cy="5590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126" descr=""/>
          <p:cNvPicPr/>
          <p:nvPr/>
        </p:nvPicPr>
        <p:blipFill>
          <a:blip r:embed="rId6"/>
          <a:stretch/>
        </p:blipFill>
        <p:spPr>
          <a:xfrm>
            <a:off x="2325600" y="4363920"/>
            <a:ext cx="1656000" cy="55908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5127" descr=""/>
          <p:cNvPicPr/>
          <p:nvPr/>
        </p:nvPicPr>
        <p:blipFill>
          <a:blip r:embed="rId7"/>
          <a:stretch/>
        </p:blipFill>
        <p:spPr>
          <a:xfrm>
            <a:off x="5695920" y="4365720"/>
            <a:ext cx="1468440" cy="55872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128" descr=""/>
          <p:cNvPicPr/>
          <p:nvPr/>
        </p:nvPicPr>
        <p:blipFill>
          <a:blip r:embed="rId8"/>
          <a:stretch/>
        </p:blipFill>
        <p:spPr>
          <a:xfrm>
            <a:off x="2340000" y="5056200"/>
            <a:ext cx="1295280" cy="5587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5129" descr=""/>
          <p:cNvPicPr/>
          <p:nvPr/>
        </p:nvPicPr>
        <p:blipFill>
          <a:blip r:embed="rId9"/>
          <a:stretch/>
        </p:blipFill>
        <p:spPr>
          <a:xfrm>
            <a:off x="5105520" y="5041800"/>
            <a:ext cx="17715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61920" y="906480"/>
            <a:ext cx="9018720" cy="381960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642960" y="4726080"/>
            <a:ext cx="7448400" cy="2076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042920" y="52578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33240" y="1995480"/>
            <a:ext cx="7875720" cy="2867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057320" y="2060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116000" y="365904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49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